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65A-ACAA-4A66-931B-BBC7E75F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50F-3A35-4CF0-B72E-A9B56A30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518-2390-4B06-852B-EF58D97B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280-5B97-4E32-BA22-3C33EF43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EF1E-3470-41B3-B719-A4C8E837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F47-99C5-4893-932D-B12C2569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A4E9-8E86-4F32-B0B0-1DEAB55E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F43-C9AA-4CDC-A90A-AE50A808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DABB-D384-44F7-B10E-562E2CD4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85F-183E-4C37-839D-BE3CA53C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093C-3865-48FE-8FBD-61B6411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D71-AC41-4420-B37E-1E6B1AC6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DDDC-67B3-4632-9065-203529D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2881-EAE9-45C1-8977-A190266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9880-C4F5-4BD0-A7BA-25661CE8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3CB9-A1F9-4C5C-9468-7EDA43AE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AF41-E7E7-4BF4-9D9C-78178E7E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C53-212D-43F5-B6E7-720FCC1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007-D299-4961-BCEE-0B95027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B8C-5B49-4FA9-A2ED-B2935962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817-97FF-404C-B80F-8C070DAF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060-96B4-451E-9877-766CFA3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656-B1B4-4F15-ABAC-67167033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7B5-B043-4F1E-844E-F638B2A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04EF-710C-47E7-8A05-A4CB8283B8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49C0-1415-4A65-B8A3-CD1B2C6002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hapter 20 Review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me Ru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unt off into group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group member gets a numb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uestions will be asked…the groups have an opportunity to explain the answer to all group memb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ll members know the answer, raise your hand.  At this point your group can no longer talk.  First group to raise hands gets to answer the ques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group member will randomly be selected to answer the ques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of organisms and how they interact with the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does the phloem do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ies sap made in leaves to the rest of the tr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symbiosi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two organisms closely interact with one ano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a guild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bers of a community that interact more closely than the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mutualis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both organisms benefit from associ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a chemotroph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ganism that makes food from breaking down chemic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ive an example where chemotrophs live and what they live off of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e edges on bottom of ocean – Chemicals in water (hydrogen sulfid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interspecific competi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different species are in compet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are limiting factor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ctors in the environment that control th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an invasive specie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native species usually accidentally introduced to the eco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how the Brown Headed Cowbird is a parasi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st parasite – lays eggs in other birds n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a keystone specie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ecies whose presence helps maintain high biodiversity lev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or make up an example of how a keystone species controls biodivers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commensalism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one benefits and the other isn’t harmed or help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an abiotic factor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living part of the eco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ve three examples of limiting facto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ve five examples of abiotic factors (in an ecosystem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carrying capacity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mber of individuals of a species an ecosystem can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girdling a tr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ring around tree to interrupt phloem = kills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if the leaf edge is enti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dge of the leaf is smo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vertical stratification effect biodivers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layers usually = more bio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me three things about the canop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est layer, site of photosynthesis, blocks sun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es competition almost always exi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esources are scarce (drought, et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how herbivores can help maintain healthy plant biodivers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er plant competition allowing less competitive species to surviv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orns are …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ified branch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does the xylem do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ries minerals and water from the roo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how predators can help maintain healthy biodivers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limit herbivore competition allowing less competitive species to surv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mits herbivore population numbers allowing plant biodiversity to stay health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ll me about what’s going on with the population at points A, B and 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= population over carrying cap…going to decrease (too few resourc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 = pop below carrying cap…going to increase (more resourc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 = population finding equilibrium at carrying capa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do birds limit competition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y limiting their foraging (feeding) z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1447920"/>
            <a:ext cx="6553080" cy="2361960"/>
            <a:chOff x="1219320" y="1447920"/>
            <a:chExt cx="6553080" cy="2361960"/>
          </a:xfrm>
        </p:grpSpPr>
        <p:sp>
          <p:nvSpPr>
            <p:cNvPr id="109" name=""/>
            <p:cNvSpPr/>
            <p:nvPr/>
          </p:nvSpPr>
          <p:spPr>
            <a:xfrm>
              <a:off x="1219320" y="1447920"/>
              <a:ext cx="0" cy="2361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3809880"/>
              <a:ext cx="6553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590560"/>
              <a:ext cx="6095880" cy="0"/>
            </a:xfrm>
            <a:prstGeom prst="line">
              <a:avLst/>
            </a:prstGeom>
            <a:ln w="76320">
              <a:solidFill>
                <a:srgbClr val="99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8920" y="1712880"/>
              <a:ext cx="6126120" cy="1767960"/>
            </a:xfrm>
            <a:custGeom>
              <a:avLst/>
              <a:gdLst/>
              <a:ahLst/>
              <a:rect l="l" t="t" r="r" b="b"/>
              <a:pathLst>
                <a:path w="17017" h="4912">
                  <a:moveTo>
                    <a:pt x="3497" y="7342"/>
                  </a:moveTo>
                  <a:cubicBezTo>
                    <a:pt x="3512" y="7332"/>
                    <a:pt x="3535" y="7275"/>
                    <a:pt x="3547" y="7268"/>
                  </a:cubicBezTo>
                  <a:cubicBezTo>
                    <a:pt x="3601" y="7236"/>
                    <a:pt x="3674" y="7231"/>
                    <a:pt x="3721" y="7193"/>
                  </a:cubicBezTo>
                  <a:cubicBezTo>
                    <a:pt x="3769" y="7154"/>
                    <a:pt x="3840" y="7124"/>
                    <a:pt x="3870" y="7094"/>
                  </a:cubicBezTo>
                  <a:cubicBezTo>
                    <a:pt x="3923" y="7042"/>
                    <a:pt x="3953" y="7021"/>
                    <a:pt x="3994" y="6970"/>
                  </a:cubicBezTo>
                  <a:cubicBezTo>
                    <a:pt x="3994" y="6937"/>
                    <a:pt x="3994" y="6921"/>
                    <a:pt x="3994" y="6896"/>
                  </a:cubicBezTo>
                  <a:cubicBezTo>
                    <a:pt x="4012" y="6874"/>
                    <a:pt x="4062" y="6848"/>
                    <a:pt x="4093" y="6796"/>
                  </a:cubicBezTo>
                  <a:cubicBezTo>
                    <a:pt x="4126" y="6742"/>
                    <a:pt x="4131" y="6744"/>
                    <a:pt x="4167" y="6697"/>
                  </a:cubicBezTo>
                  <a:cubicBezTo>
                    <a:pt x="4247" y="6593"/>
                    <a:pt x="4304" y="6459"/>
                    <a:pt x="4415" y="6350"/>
                  </a:cubicBezTo>
                  <a:cubicBezTo>
                    <a:pt x="4493" y="6273"/>
                    <a:pt x="4594" y="6227"/>
                    <a:pt x="4663" y="6152"/>
                  </a:cubicBezTo>
                  <a:cubicBezTo>
                    <a:pt x="4713" y="6098"/>
                    <a:pt x="4747" y="6079"/>
                    <a:pt x="4787" y="6028"/>
                  </a:cubicBezTo>
                  <a:cubicBezTo>
                    <a:pt x="4865" y="5929"/>
                    <a:pt x="4896" y="5828"/>
                    <a:pt x="4961" y="5730"/>
                  </a:cubicBezTo>
                  <a:cubicBezTo>
                    <a:pt x="5004" y="5665"/>
                    <a:pt x="5055" y="5596"/>
                    <a:pt x="5085" y="5531"/>
                  </a:cubicBezTo>
                  <a:cubicBezTo>
                    <a:pt x="5131" y="5430"/>
                    <a:pt x="5164" y="5392"/>
                    <a:pt x="5184" y="5283"/>
                  </a:cubicBezTo>
                  <a:cubicBezTo>
                    <a:pt x="5259" y="4866"/>
                    <a:pt x="5220" y="4495"/>
                    <a:pt x="5407" y="4118"/>
                  </a:cubicBezTo>
                  <a:cubicBezTo>
                    <a:pt x="5424" y="4083"/>
                    <a:pt x="5435" y="4053"/>
                    <a:pt x="5457" y="4018"/>
                  </a:cubicBezTo>
                  <a:cubicBezTo>
                    <a:pt x="5494" y="3959"/>
                    <a:pt x="5536" y="3892"/>
                    <a:pt x="5581" y="3845"/>
                  </a:cubicBezTo>
                  <a:cubicBezTo>
                    <a:pt x="5749" y="3668"/>
                    <a:pt x="5966" y="3511"/>
                    <a:pt x="6152" y="3349"/>
                  </a:cubicBezTo>
                  <a:cubicBezTo>
                    <a:pt x="6215" y="3294"/>
                    <a:pt x="6291" y="3245"/>
                    <a:pt x="6350" y="3200"/>
                  </a:cubicBezTo>
                  <a:cubicBezTo>
                    <a:pt x="6478" y="3101"/>
                    <a:pt x="6631" y="3013"/>
                    <a:pt x="6747" y="2902"/>
                  </a:cubicBezTo>
                  <a:cubicBezTo>
                    <a:pt x="6808" y="2844"/>
                    <a:pt x="6844" y="2783"/>
                    <a:pt x="6896" y="2729"/>
                  </a:cubicBezTo>
                  <a:cubicBezTo>
                    <a:pt x="6941" y="2682"/>
                    <a:pt x="6918" y="2671"/>
                    <a:pt x="6970" y="2629"/>
                  </a:cubicBezTo>
                  <a:cubicBezTo>
                    <a:pt x="6991" y="2612"/>
                    <a:pt x="6997" y="2570"/>
                    <a:pt x="7020" y="2555"/>
                  </a:cubicBezTo>
                  <a:cubicBezTo>
                    <a:pt x="7068" y="2524"/>
                    <a:pt x="7065" y="2532"/>
                    <a:pt x="7119" y="2505"/>
                  </a:cubicBezTo>
                  <a:cubicBezTo>
                    <a:pt x="7152" y="2489"/>
                    <a:pt x="7232" y="2464"/>
                    <a:pt x="7268" y="2456"/>
                  </a:cubicBezTo>
                  <a:cubicBezTo>
                    <a:pt x="7316" y="2445"/>
                    <a:pt x="7343" y="2433"/>
                    <a:pt x="7392" y="2431"/>
                  </a:cubicBezTo>
                  <a:cubicBezTo>
                    <a:pt x="7514" y="2427"/>
                    <a:pt x="7642" y="2446"/>
                    <a:pt x="7739" y="2505"/>
                  </a:cubicBezTo>
                  <a:cubicBezTo>
                    <a:pt x="7800" y="2542"/>
                    <a:pt x="7875" y="2605"/>
                    <a:pt x="7913" y="2654"/>
                  </a:cubicBezTo>
                  <a:cubicBezTo>
                    <a:pt x="7936" y="2683"/>
                    <a:pt x="7919" y="2721"/>
                    <a:pt x="7938" y="2753"/>
                  </a:cubicBezTo>
                  <a:cubicBezTo>
                    <a:pt x="7990" y="2844"/>
                    <a:pt x="7996" y="2940"/>
                    <a:pt x="8037" y="3026"/>
                  </a:cubicBezTo>
                  <a:cubicBezTo>
                    <a:pt x="8069" y="3093"/>
                    <a:pt x="8076" y="3158"/>
                    <a:pt x="8111" y="3225"/>
                  </a:cubicBezTo>
                  <a:cubicBezTo>
                    <a:pt x="8130" y="3260"/>
                    <a:pt x="8192" y="3319"/>
                    <a:pt x="8210" y="3349"/>
                  </a:cubicBezTo>
                  <a:cubicBezTo>
                    <a:pt x="8251" y="3416"/>
                    <a:pt x="8289" y="3479"/>
                    <a:pt x="8334" y="3547"/>
                  </a:cubicBezTo>
                  <a:cubicBezTo>
                    <a:pt x="8381" y="3618"/>
                    <a:pt x="8452" y="3680"/>
                    <a:pt x="8508" y="3746"/>
                  </a:cubicBezTo>
                  <a:cubicBezTo>
                    <a:pt x="8573" y="3823"/>
                    <a:pt x="8674" y="3926"/>
                    <a:pt x="8731" y="3994"/>
                  </a:cubicBezTo>
                  <a:cubicBezTo>
                    <a:pt x="8765" y="4034"/>
                    <a:pt x="8815" y="4095"/>
                    <a:pt x="8855" y="4142"/>
                  </a:cubicBezTo>
                  <a:cubicBezTo>
                    <a:pt x="8884" y="4176"/>
                    <a:pt x="8938" y="4223"/>
                    <a:pt x="8954" y="4242"/>
                  </a:cubicBezTo>
                  <a:cubicBezTo>
                    <a:pt x="8984" y="4279"/>
                    <a:pt x="9018" y="4349"/>
                    <a:pt x="9054" y="4390"/>
                  </a:cubicBezTo>
                  <a:cubicBezTo>
                    <a:pt x="9087" y="4427"/>
                    <a:pt x="9093" y="4428"/>
                    <a:pt x="9128" y="4465"/>
                  </a:cubicBezTo>
                  <a:cubicBezTo>
                    <a:pt x="9237" y="4581"/>
                    <a:pt x="9345" y="4682"/>
                    <a:pt x="9451" y="4787"/>
                  </a:cubicBezTo>
                  <a:cubicBezTo>
                    <a:pt x="9520" y="4855"/>
                    <a:pt x="9587" y="4940"/>
                    <a:pt x="9649" y="4986"/>
                  </a:cubicBezTo>
                  <a:cubicBezTo>
                    <a:pt x="9693" y="5018"/>
                    <a:pt x="9750" y="5025"/>
                    <a:pt x="9798" y="5060"/>
                  </a:cubicBezTo>
                  <a:cubicBezTo>
                    <a:pt x="9879" y="5118"/>
                    <a:pt x="9970" y="5185"/>
                    <a:pt x="10046" y="5234"/>
                  </a:cubicBezTo>
                  <a:cubicBezTo>
                    <a:pt x="10094" y="5265"/>
                    <a:pt x="10103" y="5257"/>
                    <a:pt x="10145" y="5283"/>
                  </a:cubicBezTo>
                  <a:cubicBezTo>
                    <a:pt x="10175" y="5302"/>
                    <a:pt x="10255" y="5350"/>
                    <a:pt x="10269" y="5358"/>
                  </a:cubicBezTo>
                  <a:cubicBezTo>
                    <a:pt x="10306" y="5379"/>
                    <a:pt x="10361" y="5426"/>
                    <a:pt x="10418" y="5457"/>
                  </a:cubicBezTo>
                  <a:cubicBezTo>
                    <a:pt x="10491" y="5497"/>
                    <a:pt x="10586" y="5547"/>
                    <a:pt x="10666" y="5581"/>
                  </a:cubicBezTo>
                  <a:cubicBezTo>
                    <a:pt x="10742" y="5614"/>
                    <a:pt x="10843" y="5630"/>
                    <a:pt x="10914" y="5655"/>
                  </a:cubicBezTo>
                  <a:cubicBezTo>
                    <a:pt x="10987" y="5681"/>
                    <a:pt x="11141" y="5754"/>
                    <a:pt x="11212" y="5755"/>
                  </a:cubicBezTo>
                  <a:cubicBezTo>
                    <a:pt x="11276" y="5756"/>
                    <a:pt x="11333" y="5740"/>
                    <a:pt x="11361" y="5730"/>
                  </a:cubicBezTo>
                  <a:cubicBezTo>
                    <a:pt x="11400" y="5716"/>
                    <a:pt x="11422" y="5675"/>
                    <a:pt x="11460" y="5655"/>
                  </a:cubicBezTo>
                  <a:cubicBezTo>
                    <a:pt x="11489" y="5640"/>
                    <a:pt x="11494" y="5607"/>
                    <a:pt x="11534" y="5581"/>
                  </a:cubicBezTo>
                  <a:cubicBezTo>
                    <a:pt x="11563" y="5563"/>
                    <a:pt x="11585" y="5499"/>
                    <a:pt x="11609" y="5482"/>
                  </a:cubicBezTo>
                  <a:cubicBezTo>
                    <a:pt x="11668" y="5439"/>
                    <a:pt x="11724" y="5417"/>
                    <a:pt x="11782" y="5358"/>
                  </a:cubicBezTo>
                  <a:cubicBezTo>
                    <a:pt x="11801" y="5338"/>
                    <a:pt x="11848" y="5317"/>
                    <a:pt x="11881" y="5283"/>
                  </a:cubicBezTo>
                  <a:cubicBezTo>
                    <a:pt x="11922" y="5241"/>
                    <a:pt x="11939" y="5212"/>
                    <a:pt x="11981" y="5159"/>
                  </a:cubicBezTo>
                  <a:cubicBezTo>
                    <a:pt x="12040" y="5085"/>
                    <a:pt x="12076" y="5009"/>
                    <a:pt x="12129" y="4936"/>
                  </a:cubicBezTo>
                  <a:cubicBezTo>
                    <a:pt x="12148" y="4910"/>
                    <a:pt x="12136" y="4885"/>
                    <a:pt x="12154" y="4862"/>
                  </a:cubicBezTo>
                  <a:cubicBezTo>
                    <a:pt x="12172" y="4840"/>
                    <a:pt x="12164" y="4808"/>
                    <a:pt x="12179" y="4787"/>
                  </a:cubicBezTo>
                  <a:cubicBezTo>
                    <a:pt x="12206" y="4748"/>
                    <a:pt x="12236" y="4769"/>
                    <a:pt x="12278" y="4713"/>
                  </a:cubicBezTo>
                  <a:cubicBezTo>
                    <a:pt x="12342" y="4627"/>
                    <a:pt x="12419" y="4541"/>
                    <a:pt x="12477" y="4465"/>
                  </a:cubicBezTo>
                  <a:cubicBezTo>
                    <a:pt x="12520" y="4408"/>
                    <a:pt x="12557" y="4347"/>
                    <a:pt x="12601" y="4291"/>
                  </a:cubicBezTo>
                  <a:cubicBezTo>
                    <a:pt x="12645" y="4235"/>
                    <a:pt x="12706" y="4136"/>
                    <a:pt x="12750" y="4093"/>
                  </a:cubicBezTo>
                  <a:cubicBezTo>
                    <a:pt x="12775" y="4069"/>
                    <a:pt x="12824" y="4012"/>
                    <a:pt x="12849" y="3994"/>
                  </a:cubicBezTo>
                  <a:cubicBezTo>
                    <a:pt x="12886" y="3967"/>
                    <a:pt x="12934" y="3943"/>
                    <a:pt x="12973" y="3919"/>
                  </a:cubicBezTo>
                  <a:cubicBezTo>
                    <a:pt x="13029" y="3885"/>
                    <a:pt x="13073" y="3894"/>
                    <a:pt x="13122" y="3870"/>
                  </a:cubicBezTo>
                  <a:cubicBezTo>
                    <a:pt x="13168" y="3847"/>
                    <a:pt x="13275" y="3781"/>
                    <a:pt x="13320" y="3770"/>
                  </a:cubicBezTo>
                  <a:cubicBezTo>
                    <a:pt x="13401" y="3751"/>
                    <a:pt x="13483" y="3751"/>
                    <a:pt x="13568" y="3746"/>
                  </a:cubicBezTo>
                  <a:cubicBezTo>
                    <a:pt x="13747" y="3736"/>
                    <a:pt x="13906" y="3767"/>
                    <a:pt x="14064" y="3845"/>
                  </a:cubicBezTo>
                  <a:cubicBezTo>
                    <a:pt x="14111" y="3868"/>
                    <a:pt x="14196" y="3910"/>
                    <a:pt x="14238" y="3944"/>
                  </a:cubicBezTo>
                  <a:cubicBezTo>
                    <a:pt x="14345" y="4029"/>
                    <a:pt x="14435" y="4173"/>
                    <a:pt x="14536" y="4266"/>
                  </a:cubicBezTo>
                  <a:cubicBezTo>
                    <a:pt x="14596" y="4321"/>
                    <a:pt x="14653" y="4358"/>
                    <a:pt x="14709" y="4415"/>
                  </a:cubicBezTo>
                  <a:cubicBezTo>
                    <a:pt x="14784" y="4491"/>
                    <a:pt x="14790" y="4539"/>
                    <a:pt x="14858" y="4614"/>
                  </a:cubicBezTo>
                  <a:cubicBezTo>
                    <a:pt x="14937" y="4701"/>
                    <a:pt x="15005" y="4767"/>
                    <a:pt x="15081" y="4862"/>
                  </a:cubicBezTo>
                  <a:cubicBezTo>
                    <a:pt x="15124" y="4915"/>
                    <a:pt x="15134" y="4953"/>
                    <a:pt x="15180" y="5011"/>
                  </a:cubicBezTo>
                  <a:cubicBezTo>
                    <a:pt x="15232" y="5076"/>
                    <a:pt x="15344" y="5157"/>
                    <a:pt x="15379" y="5209"/>
                  </a:cubicBezTo>
                  <a:cubicBezTo>
                    <a:pt x="15379" y="5226"/>
                    <a:pt x="15379" y="5242"/>
                    <a:pt x="15379" y="5259"/>
                  </a:cubicBezTo>
                  <a:cubicBezTo>
                    <a:pt x="15418" y="5287"/>
                    <a:pt x="15516" y="5385"/>
                    <a:pt x="15553" y="5407"/>
                  </a:cubicBezTo>
                  <a:cubicBezTo>
                    <a:pt x="15606" y="5439"/>
                    <a:pt x="15600" y="5459"/>
                    <a:pt x="15652" y="5482"/>
                  </a:cubicBezTo>
                  <a:cubicBezTo>
                    <a:pt x="15700" y="5503"/>
                    <a:pt x="15855" y="5563"/>
                    <a:pt x="15900" y="5556"/>
                  </a:cubicBezTo>
                  <a:cubicBezTo>
                    <a:pt x="16047" y="5533"/>
                    <a:pt x="15994" y="5512"/>
                    <a:pt x="16098" y="5432"/>
                  </a:cubicBezTo>
                  <a:cubicBezTo>
                    <a:pt x="16181" y="5368"/>
                    <a:pt x="16226" y="5242"/>
                    <a:pt x="16272" y="5159"/>
                  </a:cubicBezTo>
                  <a:cubicBezTo>
                    <a:pt x="16290" y="5126"/>
                    <a:pt x="16319" y="5045"/>
                    <a:pt x="16346" y="4986"/>
                  </a:cubicBezTo>
                  <a:cubicBezTo>
                    <a:pt x="16389" y="4892"/>
                    <a:pt x="16413" y="4747"/>
                    <a:pt x="16470" y="4663"/>
                  </a:cubicBezTo>
                  <a:cubicBezTo>
                    <a:pt x="16492" y="4630"/>
                    <a:pt x="16519" y="4590"/>
                    <a:pt x="16545" y="4564"/>
                  </a:cubicBezTo>
                  <a:cubicBezTo>
                    <a:pt x="16575" y="4534"/>
                    <a:pt x="16536" y="4519"/>
                    <a:pt x="16594" y="4490"/>
                  </a:cubicBezTo>
                  <a:cubicBezTo>
                    <a:pt x="16628" y="4473"/>
                    <a:pt x="16676" y="4465"/>
                    <a:pt x="16743" y="4465"/>
                  </a:cubicBezTo>
                  <a:cubicBezTo>
                    <a:pt x="16786" y="4465"/>
                    <a:pt x="16828" y="4476"/>
                    <a:pt x="16867" y="4490"/>
                  </a:cubicBezTo>
                  <a:cubicBezTo>
                    <a:pt x="16966" y="4525"/>
                    <a:pt x="17093" y="4667"/>
                    <a:pt x="17165" y="4738"/>
                  </a:cubicBezTo>
                  <a:cubicBezTo>
                    <a:pt x="17205" y="4778"/>
                    <a:pt x="17257" y="4800"/>
                    <a:pt x="17289" y="4837"/>
                  </a:cubicBezTo>
                  <a:cubicBezTo>
                    <a:pt x="17296" y="4845"/>
                    <a:pt x="17329" y="4929"/>
                    <a:pt x="17338" y="4936"/>
                  </a:cubicBezTo>
                  <a:cubicBezTo>
                    <a:pt x="17396" y="4982"/>
                    <a:pt x="17370" y="5051"/>
                    <a:pt x="17462" y="5085"/>
                  </a:cubicBezTo>
                  <a:cubicBezTo>
                    <a:pt x="17623" y="5145"/>
                    <a:pt x="17884" y="5086"/>
                    <a:pt x="18008" y="5011"/>
                  </a:cubicBezTo>
                  <a:cubicBezTo>
                    <a:pt x="18048" y="4987"/>
                    <a:pt x="18076" y="4962"/>
                    <a:pt x="18107" y="4936"/>
                  </a:cubicBezTo>
                  <a:cubicBezTo>
                    <a:pt x="18123" y="4923"/>
                    <a:pt x="18127" y="4815"/>
                    <a:pt x="18132" y="4812"/>
                  </a:cubicBezTo>
                  <a:cubicBezTo>
                    <a:pt x="18149" y="4801"/>
                    <a:pt x="18172" y="4767"/>
                    <a:pt x="18182" y="4762"/>
                  </a:cubicBezTo>
                  <a:cubicBezTo>
                    <a:pt x="18211" y="4747"/>
                    <a:pt x="18215" y="4732"/>
                    <a:pt x="18256" y="4713"/>
                  </a:cubicBezTo>
                  <a:cubicBezTo>
                    <a:pt x="18330" y="4679"/>
                    <a:pt x="18469" y="4683"/>
                    <a:pt x="18554" y="4688"/>
                  </a:cubicBezTo>
                  <a:cubicBezTo>
                    <a:pt x="18607" y="4691"/>
                    <a:pt x="18630" y="4676"/>
                    <a:pt x="18678" y="4688"/>
                  </a:cubicBezTo>
                  <a:cubicBezTo>
                    <a:pt x="18697" y="4693"/>
                    <a:pt x="18701" y="4750"/>
                    <a:pt x="18752" y="4762"/>
                  </a:cubicBezTo>
                  <a:cubicBezTo>
                    <a:pt x="18809" y="4776"/>
                    <a:pt x="18889" y="4815"/>
                    <a:pt x="18951" y="4837"/>
                  </a:cubicBezTo>
                  <a:cubicBezTo>
                    <a:pt x="19098" y="4890"/>
                    <a:pt x="19303" y="5002"/>
                    <a:pt x="19472" y="4961"/>
                  </a:cubicBezTo>
                  <a:cubicBezTo>
                    <a:pt x="19534" y="4946"/>
                    <a:pt x="19565" y="4935"/>
                    <a:pt x="19621" y="4911"/>
                  </a:cubicBezTo>
                  <a:cubicBezTo>
                    <a:pt x="19621" y="4911"/>
                    <a:pt x="19669" y="4837"/>
                    <a:pt x="19670" y="4837"/>
                  </a:cubicBezTo>
                  <a:cubicBezTo>
                    <a:pt x="19707" y="4818"/>
                    <a:pt x="19752" y="4773"/>
                    <a:pt x="19769" y="4762"/>
                  </a:cubicBezTo>
                  <a:cubicBezTo>
                    <a:pt x="19807" y="4738"/>
                    <a:pt x="19854" y="4715"/>
                    <a:pt x="19893" y="4688"/>
                  </a:cubicBezTo>
                  <a:cubicBezTo>
                    <a:pt x="19893" y="4680"/>
                    <a:pt x="19893" y="4671"/>
                    <a:pt x="19893" y="4663"/>
                  </a:cubicBezTo>
                  <a:cubicBezTo>
                    <a:pt x="19942" y="4693"/>
                    <a:pt x="19999" y="4733"/>
                    <a:pt x="20042" y="4762"/>
                  </a:cubicBezTo>
                  <a:cubicBezTo>
                    <a:pt x="20070" y="4781"/>
                    <a:pt x="20109" y="4790"/>
                    <a:pt x="20141" y="4812"/>
                  </a:cubicBezTo>
                  <a:cubicBezTo>
                    <a:pt x="20167" y="4830"/>
                    <a:pt x="20193" y="4822"/>
                    <a:pt x="20216" y="4837"/>
                  </a:cubicBezTo>
                  <a:cubicBezTo>
                    <a:pt x="20282" y="4879"/>
                    <a:pt x="20323" y="4953"/>
                    <a:pt x="20389" y="4986"/>
                  </a:cubicBezTo>
                  <a:cubicBezTo>
                    <a:pt x="20403" y="4993"/>
                    <a:pt x="20485" y="4995"/>
                    <a:pt x="20513" y="5011"/>
                  </a:cubicBezTo>
                </a:path>
              </a:pathLst>
            </a:custGeom>
            <a:noFill/>
            <a:ln cap="rnd"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2666880" y="1143000"/>
            <a:ext cx="276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91120" y="2971800"/>
            <a:ext cx="252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34320" y="205740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3:58:43Z</dcterms:created>
  <dc:creator>SASD</dc:creator>
  <dc:description/>
  <dc:language>en-US</dc:language>
  <cp:lastModifiedBy>SASD</cp:lastModifiedBy>
  <dcterms:modified xsi:type="dcterms:W3CDTF">2008-10-01T14:35:27Z</dcterms:modified>
  <cp:revision>3</cp:revision>
  <dc:subject/>
  <dc:title>Chapter 20 Review</dc:title>
</cp:coreProperties>
</file>